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F71-3FE8-4A11-87B0-403EED36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7219-180F-451B-8286-00DD2FBD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0A73-F0E4-4DB3-8F4B-FBA8B9E5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C9A-02D2-4B42-87CB-1EC20304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8009-22B6-47E9-968A-893FF9E6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BEB0-39EE-4F99-9C1A-1D9E3743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B91-FE6D-4D79-B65D-43373B82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F47E-2636-48F0-87CE-8AAC470E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879-F239-45CF-A068-5967262F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5ACD-2745-483F-9E02-1DAA62B1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C08-072B-4EB1-B454-3A775785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C89-6DFD-4FFB-9B0F-EE95D2B1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9F81-0C63-48EC-B029-CC8F0EC65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" Target="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91720" y="3886200"/>
            <a:ext cx="4601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9966"/>
                </a:solidFill>
                <a:latin typeface="Verdana"/>
                <a:ea typeface="Arial"/>
              </a:rPr>
              <a:t>PROTECTION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9966"/>
                </a:solidFill>
                <a:latin typeface="Verdana"/>
                <a:ea typeface="Arial"/>
              </a:rPr>
              <a:t>DES YEUX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regard1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4648320" cy="1690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60958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9966"/>
                </a:solidFill>
                <a:latin typeface="Times New Roman"/>
              </a:rPr>
              <a:t>Réalisé par S. Monet – M. Neyrinck – B. Lefebv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525640" y="430200"/>
            <a:ext cx="32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Statist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43000" y="1979640"/>
            <a:ext cx="684360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280" y="1828800"/>
            <a:ext cx="8244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Au poste de travail, les yeux et le visage des travailleurs sont susceptibles d’être exposés à des ris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189080"/>
            <a:ext cx="82296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xe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1. Que faut-il faire pour charger une batter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Vérifier le niveau d'électrolyte avant de recharger une batterie : si l'électrolyte recouvre le dessus des plaques, ne pas ajouter d'eau et vérifier à nouveau le niveau de liquide une fois la batterie recharg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Pour réduire les risques d'explosion, suivre les recommandations du fabricant du chargeur sur le branchement et débranchement des câbles et sur le fonctionnement du charge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En règle générale, on recommande de débrancher le chargeur ou de le mettre hors tension avant de brancher ou de débrancher les pinces. En y allant délicatement, brancher la pince positive [+], habituellement rouge, sur la borne positive de la batterie et la pince négative [-], habituellement noire, sur la borne nég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Ne recharger des batteries que dans un endroit bien ventil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Si la batterie devient chaude ou si de l'électrolyte se met à jaillir d'un bouchon, mettre temporairement le chargeur hors tension. Reprendre le chargement avec un courant de plus faible intensité ou à une vitesse de chargement moins élev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2. Quels sont les risques pour les yeux lors de la mise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n charge de la batter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élec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Contact des deux bornes en même tem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d’explo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Dégagement d’hydrogène qui à concentration suffisante dans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’air devient explosi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de pro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Échauffement de l’électroly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En fin de charge, une opératrice fait l’appoint de niveau d’une batterie de traction. Que se passe-t-il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8672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’opératrice a reçu une projection d’électrolyte dans l’œil gau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63600" y="2133720"/>
            <a:ext cx="477072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13716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3. Que peut-on mettre en place pour limiter les risques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ncourus par les yeux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 port d’une protection adapt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05480" y="430200"/>
            <a:ext cx="310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Prot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95280"/>
            <a:ext cx="82296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Il existe de nombreux modèles de protecteurs des yeux et/ou du vi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On peut les classer en trois grands types :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59092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lunettes branch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16088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lunettes mas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60880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écrans facia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62520" y="4132440"/>
            <a:ext cx="2209680" cy="744480"/>
            <a:chOff x="3962520" y="4132440"/>
            <a:chExt cx="2209680" cy="744480"/>
          </a:xfrm>
        </p:grpSpPr>
        <p:pic>
          <p:nvPicPr>
            <p:cNvPr id="71" name="" descr=""/>
            <p:cNvPicPr/>
            <p:nvPr/>
          </p:nvPicPr>
          <p:blipFill>
            <a:blip r:embed="rId3"/>
            <a:srcRect l="2771" t="22239" r="3704" b="19641"/>
            <a:stretch/>
          </p:blipFill>
          <p:spPr>
            <a:xfrm>
              <a:off x="3962520" y="4132440"/>
              <a:ext cx="22096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3962520" y="4132440"/>
              <a:ext cx="2209680" cy="74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038480" y="2590920"/>
            <a:ext cx="3272040" cy="1455480"/>
            <a:chOff x="4038480" y="2590920"/>
            <a:chExt cx="3272040" cy="1455480"/>
          </a:xfrm>
        </p:grpSpPr>
        <p:grpSp>
          <p:nvGrpSpPr>
            <p:cNvPr id="74" name=""/>
            <p:cNvGrpSpPr/>
            <p:nvPr/>
          </p:nvGrpSpPr>
          <p:grpSpPr>
            <a:xfrm>
              <a:off x="4038480" y="2590920"/>
              <a:ext cx="1828800" cy="690480"/>
              <a:chOff x="4038480" y="2590920"/>
              <a:chExt cx="1828800" cy="690480"/>
            </a:xfrm>
          </p:grpSpPr>
          <p:pic>
            <p:nvPicPr>
              <p:cNvPr id="75" name="" descr=""/>
              <p:cNvPicPr/>
              <p:nvPr/>
            </p:nvPicPr>
            <p:blipFill>
              <a:blip r:embed="rId4"/>
              <a:srcRect l="2248" t="24225" r="5967" b="11784"/>
              <a:stretch/>
            </p:blipFill>
            <p:spPr>
              <a:xfrm>
                <a:off x="4038480" y="2590920"/>
                <a:ext cx="1828800" cy="69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 txBox="1"/>
              <p:nvPr/>
            </p:nvSpPr>
            <p:spPr>
              <a:xfrm>
                <a:off x="4038480" y="2590920"/>
                <a:ext cx="1828800" cy="69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9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5715000" y="3124080"/>
              <a:ext cx="1595520" cy="92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3505320" y="5029200"/>
            <a:ext cx="2382840" cy="1596960"/>
            <a:chOff x="3505320" y="5029200"/>
            <a:chExt cx="2382840" cy="1596960"/>
          </a:xfrm>
        </p:grpSpPr>
        <p:pic>
          <p:nvPicPr>
            <p:cNvPr id="79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800600" y="5029200"/>
              <a:ext cx="1087560" cy="15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8"/>
            <a:stretch/>
          </p:blipFill>
          <p:spPr>
            <a:xfrm>
              <a:off x="3505320" y="5257800"/>
              <a:ext cx="817560" cy="119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96840" y="430200"/>
            <a:ext cx="29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447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66"/>
                </a:solidFill>
                <a:latin typeface="Verdana"/>
              </a:rPr>
              <a:t>L’œil est un organe fragile et vulnér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Les effets d’un accident aux yeux sont nombreux et d’une gravité </a:t>
            </a:r>
            <a:br>
              <a:rPr sz="1600"/>
            </a:b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allant d’une simple irritation à la cécité totale, d’où l’importance </a:t>
            </a:r>
            <a:br>
              <a:rPr sz="1600"/>
            </a:b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d’utiliser l’EPI adapt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4:40:51Z</dcterms:created>
  <dc:creator>K100</dc:creator>
  <dc:description/>
  <dc:language>en-US</dc:language>
  <cp:lastModifiedBy>K100</cp:lastModifiedBy>
  <dcterms:modified xsi:type="dcterms:W3CDTF">2008-10-03T13:56:28Z</dcterms:modified>
  <cp:revision>9</cp:revision>
  <dc:subject/>
  <dc:title>Présentation PowerPoint</dc:title>
</cp:coreProperties>
</file>